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44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1880" y="742680"/>
            <a:ext cx="2784600" cy="37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68D-3E71-44B0-A6CA-3AA443A10BA0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FA7-C96F-4F5F-B1E6-87935062292E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834-52AB-4ED4-81C4-12B20AD4DCD3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710-D178-451A-A043-1CE80DEF5178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0A0-4C42-44B4-80A5-66F76C46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965-9111-4B70-8C48-57ED328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D3C-39FC-469B-B789-9A96A3F6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5CD-E401-4F3C-8857-B9DFDAE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996-6903-4D3D-9AD1-FB23E236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086-ADCA-4753-ACE1-4DC324E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956-0B75-4298-96E1-AB2628C8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B34-B7E5-463B-87F8-E5C6CAA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81D-E09B-4270-9306-5431701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032-F33F-4AF7-AEBB-344C12F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94F-269C-4E6A-8E0B-21CC3F3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F65-F03F-4AC9-8475-2319F1A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A5A-2A5A-4822-A647-93EF3395D31B}" type="slidenum">
              <a:rPr b="1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Texto 3"/>
          <p:cNvSpPr/>
          <p:nvPr/>
        </p:nvSpPr>
        <p:spPr>
          <a:xfrm>
            <a:off x="2349360" y="6566040"/>
            <a:ext cx="2159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Verdana"/>
                <a:ea typeface="Verdana"/>
              </a:rPr>
              <a:t>TA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Fundacao_Renova_Marca_RGB_1.png"/>
          <p:cNvPicPr/>
          <p:nvPr/>
        </p:nvPicPr>
        <p:blipFill>
          <a:blip r:embed="rId1"/>
          <a:stretch/>
        </p:blipFill>
        <p:spPr>
          <a:xfrm>
            <a:off x="1197000" y="3376440"/>
            <a:ext cx="446400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15920" y="133200"/>
          <a:ext cx="3500280" cy="1282680"/>
        </p:xfrm>
        <a:graphic>
          <a:graphicData uri="http://schemas.openxmlformats.org/drawingml/2006/table">
            <a:tbl>
              <a:tblPr/>
              <a:tblGrid>
                <a:gridCol w="1725480"/>
                <a:gridCol w="1774800"/>
              </a:tblGrid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ódig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-SES-0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ela Cristina De Cast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bens Bechara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a aprov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10/2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icidade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úblic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52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7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Hidrog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96920" y="1825560"/>
            <a:ext cx="3024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GT 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DO 048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20/06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 02/03/20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04/02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375000" y="1825560"/>
            <a:ext cx="30243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BJ 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XX 717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arrag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94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196920" y="1825560"/>
            <a:ext cx="30240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09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YK-3350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4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375000" y="1825560"/>
            <a:ext cx="3024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1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PC-6141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30:49Z</dcterms:created>
  <dc:creator>pedro</dc:creator>
  <dc:description/>
  <dc:language>en-US</dc:language>
  <cp:lastModifiedBy>Wellington Jose Carvalho Da Conceicao</cp:lastModifiedBy>
  <cp:lastPrinted>2017-03-02T13:28:05Z</cp:lastPrinted>
  <dcterms:modified xsi:type="dcterms:W3CDTF">2020-10-16T12:25:24Z</dcterms:modified>
  <cp:revision>1218</cp:revision>
  <dc:subject/>
  <dc:title>Slide 1</dc:title>
</cp:coreProperties>
</file>